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2CBD3-9363-40C1-9D89-0F1F331EB13B}"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2B6CE-1FDA-4D86-9D2F-B04636806D87}"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Likewise, when you report that one group mean is somehow different from another (larger, smaller, increased, decreased, etc), it will be understood by your reader that you have tested th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3D810-9DF6-4573-8949-A454E2E5F729}"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0C02A3-3FF9-48DE-82C7-4F67DBC88C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0C6E3A-6751-4C5E-B40C-D528A87F64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B036A0-3470-4FD0-B5C2-B3F3AE8EE3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E7E3BB-407E-4C30-BED0-3CCAEFFF6D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AC4EFA-45AA-4703-9393-216D303CB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ED31F7-9266-446D-8654-A9F26CB61F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B7DFF8-0CEC-400D-AED0-799CE236C7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FFCB61-0C9A-496D-8D0F-D6A3A1CC76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9ABC00-78EC-4BB6-872B-6E839E5876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5011D-06C1-429D-A0C1-1F6A6E884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34F4C-6B71-4FA2-9874-A2855FB86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50D4C-6E73-4A01-A658-5FAA630E6A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14B1D-5C9A-45A5-B70A-A869A0FD1374}" type="slidenum">
              <a:rPr b="0" lang="en-I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Results –Quantitative data</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898989"/>
                </a:solidFill>
                <a:latin typeface="Calibri"/>
              </a:rPr>
              <a:t>Kath Bennett</a:t>
            </a:r>
            <a:endParaRPr b="0" lang="en-US" sz="3200" spc="-1" strike="noStrike">
              <a:solidFill>
                <a:srgbClr val="000000"/>
              </a:solidFill>
              <a:latin typeface="Calibri"/>
            </a:endParaRPr>
          </a:p>
        </p:txBody>
      </p:sp>
      <p:pic>
        <p:nvPicPr>
          <p:cNvPr id="50" name="Picture 3" descr=""/>
          <p:cNvPicPr/>
          <p:nvPr/>
        </p:nvPicPr>
        <p:blipFill>
          <a:blip r:embed="rId1"/>
          <a:stretch/>
        </p:blipFill>
        <p:spPr>
          <a:xfrm>
            <a:off x="5940360" y="109440"/>
            <a:ext cx="3154320" cy="1481400"/>
          </a:xfrm>
          <a:prstGeom prst="rect">
            <a:avLst/>
          </a:prstGeom>
          <a:ln w="0">
            <a:noFill/>
          </a:ln>
        </p:spPr>
      </p:pic>
      <p:grpSp>
        <p:nvGrpSpPr>
          <p:cNvPr id="51" name="Group 4"/>
          <p:cNvGrpSpPr/>
          <p:nvPr/>
        </p:nvGrpSpPr>
        <p:grpSpPr>
          <a:xfrm>
            <a:off x="85680" y="115920"/>
            <a:ext cx="1965240" cy="865080"/>
            <a:chOff x="85680" y="115920"/>
            <a:chExt cx="1965240" cy="865080"/>
          </a:xfrm>
        </p:grpSpPr>
        <p:pic>
          <p:nvPicPr>
            <p:cNvPr id="52" name="Picture 5" descr="http://research.ncl.ac.uk/media/sites/researchwebsites/rescapmed/EUlogo.jpg"/>
            <p:cNvPicPr/>
            <p:nvPr/>
          </p:nvPicPr>
          <p:blipFill>
            <a:blip r:embed="rId2"/>
            <a:stretch/>
          </p:blipFill>
          <p:spPr>
            <a:xfrm>
              <a:off x="85680" y="115920"/>
              <a:ext cx="992520" cy="865080"/>
            </a:xfrm>
            <a:prstGeom prst="rect">
              <a:avLst/>
            </a:prstGeom>
            <a:ln w="0">
              <a:noFill/>
            </a:ln>
          </p:spPr>
        </p:pic>
        <p:pic>
          <p:nvPicPr>
            <p:cNvPr id="53" name="Picture 7" descr="http://research.ncl.ac.uk/media/sites/researchwebsites/rescapmed/FP7logo2.jpg"/>
            <p:cNvPicPr/>
            <p:nvPr/>
          </p:nvPicPr>
          <p:blipFill>
            <a:blip r:embed="rId3"/>
            <a:stretch/>
          </p:blipFill>
          <p:spPr>
            <a:xfrm>
              <a:off x="1258200" y="123840"/>
              <a:ext cx="792720" cy="85716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Examples</a:t>
            </a:r>
            <a:endParaRPr b="0" lang="en-US" sz="4400" spc="-1" strike="noStrike">
              <a:solidFill>
                <a:srgbClr val="000000"/>
              </a:solidFill>
              <a:latin typeface="Calibri"/>
            </a:endParaRPr>
          </a:p>
        </p:txBody>
      </p:sp>
      <p:pic>
        <p:nvPicPr>
          <p:cNvPr id="72" name="Picture 2" descr=""/>
          <p:cNvPicPr/>
          <p:nvPr/>
        </p:nvPicPr>
        <p:blipFill>
          <a:blip r:embed="rId1"/>
          <a:stretch/>
        </p:blipFill>
        <p:spPr>
          <a:xfrm>
            <a:off x="395280" y="1557360"/>
            <a:ext cx="7991640" cy="4686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tting started on results</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write and revise until you have every test necessary to test your hypotheses and the reader can easily determine what the results indicate in terms of your hypotheses or ques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95280" y="227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pecific poi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Data vs results</a:t>
            </a:r>
            <a:endParaRPr b="0" lang="en-US" sz="4400" spc="-1" strike="noStrike">
              <a:solidFill>
                <a:srgbClr val="000000"/>
              </a:solidFill>
              <a:latin typeface="Calibri"/>
            </a:endParaRPr>
          </a:p>
        </p:txBody>
      </p:sp>
      <p:sp>
        <p:nvSpPr>
          <p:cNvPr id="77" name=""/>
          <p:cNvSpPr txBox="1"/>
          <p:nvPr/>
        </p:nvSpPr>
        <p:spPr>
          <a:xfrm>
            <a:off x="457200" y="1599840"/>
            <a:ext cx="8362800" cy="47084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500" spc="-1" strike="noStrike">
                <a:solidFill>
                  <a:srgbClr val="000000"/>
                </a:solidFill>
                <a:latin typeface="Calibri"/>
              </a:rPr>
              <a:t>Data </a:t>
            </a:r>
            <a:r>
              <a:rPr b="0" lang="en-IE" sz="2500" spc="-1" strike="noStrike">
                <a:solidFill>
                  <a:srgbClr val="000000"/>
                </a:solidFill>
                <a:latin typeface="Calibri"/>
              </a:rPr>
              <a:t>are facts presented as numbers or figures e.g. means, proportions etc.</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500" spc="-1" strike="noStrike">
                <a:solidFill>
                  <a:srgbClr val="000000"/>
                </a:solidFill>
                <a:latin typeface="Calibri"/>
              </a:rPr>
              <a:t>Results are general statements that </a:t>
            </a:r>
            <a:r>
              <a:rPr b="0" lang="en-IE" sz="2500" spc="-1" strike="noStrike">
                <a:solidFill>
                  <a:srgbClr val="000000"/>
                </a:solidFill>
                <a:latin typeface="Calibri"/>
              </a:rPr>
              <a:t>interpret data, i.e., the meaning of the data</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500" spc="-1" strike="noStrike">
                <a:solidFill>
                  <a:srgbClr val="000000"/>
                </a:solidFill>
                <a:latin typeface="Calibri"/>
              </a:rPr>
              <a:t>Example: Data but no resul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Calibri"/>
              </a:rPr>
              <a:t>In the 20 control subjects, the mean resting blood pressure was 85 ±5 (SD) mmHg. In the 30 athletes, the mean resting blood pressure was 94 ± 3 mmHg.</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500" spc="-1" strike="noStrike">
                <a:solidFill>
                  <a:srgbClr val="000000"/>
                </a:solidFill>
                <a:latin typeface="Calibri"/>
              </a:rPr>
              <a:t>Result and general idea of the magnitud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Calibri"/>
              </a:rPr>
              <a:t>The mean resting blood pressure was 10% higher in the 30 athletes than in the 20 control subjects [94 ±3 (SD) vs. 85 ± 5 mmHg, </a:t>
            </a:r>
            <a:r>
              <a:rPr b="0" i="1" lang="en-IE" sz="2500" spc="-1" strike="noStrike">
                <a:solidFill>
                  <a:srgbClr val="000000"/>
                </a:solidFill>
                <a:latin typeface="Calibri"/>
              </a:rPr>
              <a:t>P &lt; 0.02].</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Calibri"/>
              </a:rPr>
              <a:t>Differences, directionality, and magnitude</a:t>
            </a:r>
            <a:endParaRPr b="0" lang="en-US" sz="40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Provide as much information as possible to the reader about the nature of differences or relationships.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For example, if you testing for differences among groups, and you find a significant difference, </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you </a:t>
            </a:r>
            <a:r>
              <a:rPr b="0" i="1" lang="en-IE" sz="2400" spc="-1" strike="noStrike" u="sng">
                <a:solidFill>
                  <a:srgbClr val="000000"/>
                </a:solidFill>
                <a:uFillTx/>
                <a:latin typeface="Calibri"/>
              </a:rPr>
              <a:t>should not</a:t>
            </a:r>
            <a:r>
              <a:rPr b="0" lang="en-IE" sz="2400" spc="-1" strike="noStrike">
                <a:solidFill>
                  <a:srgbClr val="000000"/>
                </a:solidFill>
                <a:latin typeface="Calibri"/>
              </a:rPr>
              <a:t> simply report that "groups A and B were significantly different".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000000"/>
                </a:solidFill>
                <a:latin typeface="Calibri"/>
              </a:rPr>
              <a:t>but</a:t>
            </a:r>
            <a:r>
              <a:rPr b="0" lang="en-IE" sz="2400" spc="-1" strike="noStrike">
                <a:solidFill>
                  <a:srgbClr val="000000"/>
                </a:solidFill>
                <a:latin typeface="Calibri"/>
              </a:rPr>
              <a:t> "Group A individuals were 23% larger than those in Group B“</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Report the </a:t>
            </a:r>
            <a:r>
              <a:rPr b="0" i="1" lang="en-IE" sz="2700" spc="-1" strike="noStrike">
                <a:solidFill>
                  <a:srgbClr val="000000"/>
                </a:solidFill>
                <a:latin typeface="Calibri"/>
              </a:rPr>
              <a:t>direction</a:t>
            </a:r>
            <a:r>
              <a:rPr b="0" lang="en-IE" sz="2700" spc="-1" strike="noStrike">
                <a:solidFill>
                  <a:srgbClr val="000000"/>
                </a:solidFill>
                <a:latin typeface="Calibri"/>
              </a:rPr>
              <a:t> of differences (greater, larger, smaller, etc) and the </a:t>
            </a:r>
            <a:r>
              <a:rPr b="0" i="1" lang="en-IE" sz="2700" spc="-1" strike="noStrike">
                <a:solidFill>
                  <a:srgbClr val="000000"/>
                </a:solidFill>
                <a:latin typeface="Calibri"/>
              </a:rPr>
              <a:t>magnitude</a:t>
            </a:r>
            <a:r>
              <a:rPr b="0" lang="en-IE" sz="2700" spc="-1" strike="noStrike">
                <a:solidFill>
                  <a:srgbClr val="000000"/>
                </a:solidFill>
                <a:latin typeface="Calibri"/>
              </a:rPr>
              <a:t> of differences (% difference, how many times, etc.) whenever possibl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Presenting statistical data</a:t>
            </a: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Calibri"/>
              </a:rPr>
              <a:t>Statistical test summaries are usually reported parenthetically in conjunction with the results they support.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This should include the statistical test used and the level of significance (test statistic and DF are optiona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For example, if you found that the mean height of male stroke patients was significantly larger than that of female patients, you might report this result (in blue) and your statistical conclusion (in red) as follow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a:t>
            </a:r>
            <a:r>
              <a:rPr b="0" lang="en-IE" sz="2400" spc="-1" strike="noStrike">
                <a:solidFill>
                  <a:srgbClr val="4f81bd"/>
                </a:solidFill>
                <a:latin typeface="Calibri"/>
              </a:rPr>
              <a:t>Males (180.5 ± 5.1; n=34) averaged 12.5 cm higher than females (168 ± 7.6 ; n=34) </a:t>
            </a:r>
            <a:r>
              <a:rPr b="0" lang="en-IE" sz="2400" spc="-1" strike="noStrike">
                <a:solidFill>
                  <a:srgbClr val="ff0000"/>
                </a:solidFill>
                <a:latin typeface="Calibri"/>
              </a:rPr>
              <a:t>(two-sample t-test, t = 5.78, 33 d.f., p &lt; 0.001)."</a:t>
            </a:r>
            <a:endParaRPr b="0" lang="en-US" sz="2400" spc="-1" strike="noStrike">
              <a:solidFill>
                <a:srgbClr val="000000"/>
              </a:solidFill>
              <a:latin typeface="Calibri"/>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Calibri"/>
              </a:rPr>
              <a:t>Use and over-use of the word "significant"</a:t>
            </a:r>
            <a:endParaRPr b="0" lang="en-US" sz="40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In scientific studies, the use of this word implies that a statistical test was employed; limit the use of the word "significant" to this purpose only. </a:t>
            </a:r>
            <a:endParaRPr b="0" lang="en-US" sz="2800" spc="-1" strike="noStrike">
              <a:solidFill>
                <a:srgbClr val="000000"/>
              </a:solidFill>
              <a:latin typeface="Calibri"/>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If your results include a p-value that indicates significance (usually when p&lt; 0.05), it is </a:t>
            </a:r>
            <a:r>
              <a:rPr b="0" i="1" lang="en-IE" sz="2800" spc="-1" strike="noStrike">
                <a:solidFill>
                  <a:srgbClr val="000000"/>
                </a:solidFill>
                <a:latin typeface="Calibri"/>
              </a:rPr>
              <a:t>unncecssary</a:t>
            </a:r>
            <a:r>
              <a:rPr b="0" lang="en-IE" sz="2800" spc="-1" strike="noStrike">
                <a:solidFill>
                  <a:srgbClr val="000000"/>
                </a:solidFill>
                <a:latin typeface="Calibri"/>
              </a:rPr>
              <a:t> (and </a:t>
            </a:r>
            <a:r>
              <a:rPr b="0" i="1" lang="en-IE" sz="2800" spc="-1" strike="noStrike">
                <a:solidFill>
                  <a:srgbClr val="000000"/>
                </a:solidFill>
                <a:latin typeface="Calibri"/>
              </a:rPr>
              <a:t>redundant</a:t>
            </a:r>
            <a:r>
              <a:rPr b="0" lang="en-IE" sz="2800" spc="-1" strike="noStrike">
                <a:solidFill>
                  <a:srgbClr val="000000"/>
                </a:solidFill>
                <a:latin typeface="Calibri"/>
              </a:rPr>
              <a:t>) to use the word "significant</a:t>
            </a:r>
            <a:endParaRPr b="0" lang="en-US" sz="2800" spc="-1" strike="noStrike">
              <a:solidFill>
                <a:srgbClr val="000000"/>
              </a:solidFill>
              <a:latin typeface="Calibri"/>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Interpretation of confidence intervals should focus on the implications (clinical importance)</a:t>
            </a:r>
            <a:endParaRPr b="0" lang="en-US" sz="2800" spc="-1" strike="noStrike">
              <a:solidFill>
                <a:srgbClr val="000000"/>
              </a:solidFill>
              <a:latin typeface="Calibri"/>
            </a:endParaRPr>
          </a:p>
          <a:p>
            <a:pPr lvl="1"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Problems to avoid</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000" spc="-1" strike="noStrike">
                <a:solidFill>
                  <a:srgbClr val="000000"/>
                </a:solidFill>
                <a:latin typeface="Calibri"/>
              </a:rPr>
              <a:t>Do not</a:t>
            </a:r>
            <a:r>
              <a:rPr b="0" lang="en-IE" sz="3000" spc="-1" strike="noStrike">
                <a:solidFill>
                  <a:srgbClr val="000000"/>
                </a:solidFill>
                <a:latin typeface="Calibri"/>
              </a:rPr>
              <a:t> reiterate each value from a Figure or Table - only the key result or trends that each conveys. </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000" spc="-1" strike="noStrike">
                <a:solidFill>
                  <a:srgbClr val="000000"/>
                </a:solidFill>
                <a:latin typeface="Calibri"/>
              </a:rPr>
              <a:t>Do not</a:t>
            </a:r>
            <a:r>
              <a:rPr b="0" lang="en-IE" sz="3000" spc="-1" strike="noStrike">
                <a:solidFill>
                  <a:srgbClr val="000000"/>
                </a:solidFill>
                <a:latin typeface="Calibri"/>
              </a:rPr>
              <a:t> present the same data in both a Table and Figure - this is considered redundant and a waste of space and energy. Decide which format best shows the result and go with it. </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000" spc="-1" strike="noStrike">
                <a:solidFill>
                  <a:srgbClr val="000000"/>
                </a:solidFill>
                <a:latin typeface="Calibri"/>
              </a:rPr>
              <a:t>Do not</a:t>
            </a:r>
            <a:r>
              <a:rPr b="0" lang="en-IE" sz="3000" spc="-1" strike="noStrike">
                <a:solidFill>
                  <a:srgbClr val="000000"/>
                </a:solidFill>
                <a:latin typeface="Calibri"/>
              </a:rPr>
              <a:t> report raw data values when they can be summarized as means, percents, etc.</a:t>
            </a:r>
            <a:br>
              <a:rPr sz="3000"/>
            </a:br>
            <a:r>
              <a:rPr b="0" lang="en-IE" sz="3000" spc="-1" strike="noStrike">
                <a:solidFill>
                  <a:srgbClr val="000000"/>
                </a:solidFill>
                <a:latin typeface="Calibri"/>
              </a:rPr>
              <a:t> </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yle</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As always, use past tense when you refer to your results, and put everything in a logical order.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In text, refer to each figure as "figure 1," "figure 2," etc. ; number your tables as well (see the reference text for details)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Place figures and tables, properly numbered, in order at the end of the report (clearly distinguish them from any other material such as raw data, standard curves, etc.)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If you prefer, you may place your figures and tables appropriately within the text of your results section.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Figures and tables</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Either place figures and tables within the text of the result, or include them in the back of the report (following Literature Cited)</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If at the end of the report, make sure they are clearly distinguished from any attached appendix material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Regardless of placement, each figure must be numbered consecutively and complete with captio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Each table must be titled, numbered consecutively and complete with heading (title with description goes above the table)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Each figure and table must be sufficiently complete that it could stand on its own, separate from tex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neral intent</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The purpose of a results section is to present and illustrate your findings. Make this section a completely objective report of the results, and save all interpretation for the discuss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hould address research question(s) posed at the star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Follows what is described in the method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ports results whether or not they support your hypothesi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Observational studies - STROBE</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In observational studies considerations of confounding and bias are as important as statistical signific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Unadjusted and adjusted (for confounders) estimates provide some idea of the effect of confound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ROBE:RESULTS</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Participants – report numbers at each stage of the study – eligible, included, followed up and analysed. A flow chart can sometimes hel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Give reasons for non-participation at each sta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ROBE:RESULTS</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Descriptive dat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Give characteristics of study participants (demographics etc) and information on exposures and confound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Give numbers with missing data for variables of interest</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ROBE:RESULTS</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Outcome dat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Cohort studies – report number of outcome events or summary measures over tim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Case-control study – report number in each exposure category or summary of exposu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Cross-sectional study – report number of outcome events or summary measur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ROBE:RESULTS</a:t>
            </a: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Main resul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Give unadjusted estimates, and adjusted (for confounders) and their precision (95% CI). Make clear which confounder were adjusted for and wh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Report category boundaries when continuous data are categoris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Consider translating estimates of relative risk into absolute risk for meaningful time perio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ROBE:RESULTS</a:t>
            </a: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Other analys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Report other analyses perform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Subgroups and interactions/effect modific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Sensitivity analys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CONTENT of results</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Summarize your findings in text and illustrate them, if appropriate, with figures and tables.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In text, describe each of your results, pointing the reader to observations that are most relevan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Provide a context, such as by describing the question that was addressed by making a particular observation.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Describe results of control experiments and include observations that are not presented in a formal figure or table, if appropriate.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Analyze your data, then prepare the analyzed (converted) data in the form of a figure (graph), table, or in text form.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tting started on results</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Organize the layout of the results section in the same way you structured the hypotheses or research questions in the introduction section of your research project. This will make it easier for the readers to follow your resul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tting started on results</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tart by describing the statistical test or tests used to compare the different conditions or test your hypotheses. Be clear on what hypothesis or question is being compared with each statistical test as well as how you are defining the groups being compared within the te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tting started on results</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Use descriptive statistics to describe the overall characteristics of the groups being compared or sample tested with the inferential statistic.</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tate the statistical results in the acceptable format for your discipline; you should familiarize yourself with whichever format is appropriate and follow the guidelines rigorousl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tting started on results</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End each statistical test with a sentence or two indicating what that particular statistical result says about the hypothesis or question. Was your hypothesis supported by the statistical resul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tting started on results</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Use tables and figures sparingly. Tables and figures should help the reader visualize the important resul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Tables and figures are helpful to summarize a large amount of data that is essential for the reader to se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Title 1"/>
          <p:cNvSpPr/>
          <p:nvPr/>
        </p:nvSpPr>
        <p:spPr>
          <a:xfrm>
            <a:off x="468360" y="-243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Examples</a:t>
            </a:r>
            <a:endParaRPr b="0" lang="en-US" sz="4400" spc="-1" strike="noStrike">
              <a:solidFill>
                <a:srgbClr val="000000"/>
              </a:solidFill>
              <a:latin typeface="Calibri"/>
            </a:endParaRPr>
          </a:p>
        </p:txBody>
      </p:sp>
      <p:pic>
        <p:nvPicPr>
          <p:cNvPr id="70" name="Picture 3" descr=""/>
          <p:cNvPicPr/>
          <p:nvPr/>
        </p:nvPicPr>
        <p:blipFill>
          <a:blip r:embed="rId1"/>
          <a:stretch/>
        </p:blipFill>
        <p:spPr>
          <a:xfrm>
            <a:off x="539640" y="1341360"/>
            <a:ext cx="8067960" cy="4514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06T16:37:29Z</dcterms:created>
  <dc:creator>Kathleen Bennett</dc:creator>
  <dc:description/>
  <dc:language>en-US</dc:language>
  <cp:lastModifiedBy>Licenced User</cp:lastModifiedBy>
  <dcterms:modified xsi:type="dcterms:W3CDTF">2014-09-18T15:34:08Z</dcterms:modified>
  <cp:revision>12</cp:revision>
  <dc:subject/>
  <dc:title>Results – describing quantitative data or ‘Announcing the findings’</dc:title>
</cp:coreProperties>
</file>